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2C2A66-50B7-4DCF-8272-8C952548F5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789988-6D20-4607-81A3-B7A8C0CCFCC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CED6EF-E6B2-4E5C-8E00-D76C535AFB5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5E912D-2665-4EF7-955B-AE4E596A685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250801-4FBB-475A-AF4B-BCF95EFD5D9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55D706-DBB2-4B21-9514-F2CDA826305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0FA6E6-6C2C-4029-8FED-BF6BC4A0DB7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FBD559-F4E3-405F-9B14-0FA1320FF36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1E4203-4FAE-4696-AE74-0F181522AC1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A1BF56-3390-4FE4-B461-E86D6BE0763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FE8726-B9E4-4999-A581-160114060EB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07E0C1-5D45-4577-9EB6-8703FE7E147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372C71-3035-450B-97E1-819F855A8E3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038775-DE0A-4C6C-AF2B-DD2E73B7534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D7982B-BE61-4647-8A67-979037B19A9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DF74A0-B9E9-4CBE-A144-0BA182D2402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67EB7B-8B16-491A-A6CC-30EE0E83ADF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030-46B9-4EDA-B86C-B4C52047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D95-9C4C-4679-A71B-18FD0A1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3D2-91D9-416F-A88E-C503DA08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BBB-F590-4AA5-BD43-8283D304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F63A-3395-42E9-8C85-572F5787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2A8B2-7F09-4F87-BFF7-BEE35A4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9232-9CB3-4A3B-A48E-EC264ED5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909A-BE2B-4F2F-A98F-B36F61FB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AE8BA-CFC0-4D31-B13A-093CD2A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7401D-BE7B-46C4-9254-0114DE0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CA551-7B9E-4137-A1E8-AB69123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607-68A4-4C4B-83D0-278CB8A7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36373-B7C6-4414-A04B-34142F8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C2F6B-C94C-4487-B594-6C89067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48B70-A56C-41CA-A774-CBE4266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6FE4-9E81-4365-9A47-6683BF6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0CF3E-9017-4532-8C84-73C78507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A1A-15C1-4D32-A8A9-6EE1C17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618-270A-49CB-A65D-0EBD132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961-B246-416D-B3A6-443BED94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619-A40F-4F8B-A6C4-69F8E22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C5E-6219-48FD-AE0C-4F89950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026-AD96-49C3-B9A3-2656A00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5B1-950D-44CC-84D0-5CD217E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28B9-8D32-48BB-B059-115117A6FE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D57-4431-4E1B-8248-124768CE8A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PAC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6 – Leçon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 – traduire / mettre / r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Nou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Nous r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Vous mette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sour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Je sour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Ell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Elles mette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On v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me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81240" y="304560"/>
            <a:ext cx="98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600" spc="-1" strike="noStrike">
                <a:solidFill>
                  <a:srgbClr val="ffffff"/>
                </a:solidFill>
                <a:latin typeface="Arial"/>
              </a:rPr>
              <a:t>FIN!</a:t>
            </a:r>
            <a:endParaRPr b="0" lang="en-US" sz="3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Direc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ffffff"/>
                </a:solidFill>
                <a:latin typeface="Arial"/>
              </a:rPr>
              <a:t>ALLONS-Y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com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I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on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Il condui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me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n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ra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ffff"/>
                </a:solidFill>
                <a:latin typeface="Arial"/>
              </a:rPr>
              <a:t>nous traduis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end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Je rend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i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Vous riez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onstrui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constru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Il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pro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Ils produise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2-04T19:38:31Z</dcterms:modified>
  <cp:revision>144</cp:revision>
  <dc:subject/>
  <dc:title>Allez, viens! – Level 2</dc:title>
</cp:coreProperties>
</file>